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CFCDEA-13D7-4A50-B6E5-46758FB41A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42ABA-6167-4E95-830F-90E6FAD93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423038-FA26-45A8-9FFC-9B19AA71D0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3A7282-44C9-4FC2-8D6A-FAAC484AE4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FF730-CAF2-46D4-8F9B-E7D15CD4E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0083C-19C7-4CBD-8CFD-BA05AE082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A5F0A-21F8-40EA-9604-419E945E6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9BB07-9BAA-49C5-B9F4-E459E06CB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D576E-B323-49A5-B12A-FFD3A9E80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37CD5-6E93-424D-B751-AD5557CFC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53B8C-71C5-43AD-B961-05F2EF802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40DAB-2795-4F91-9947-624E492C88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8A740-3077-4A9A-AF1D-E639E15863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ROMANĂ</a:t>
            </a:r>
            <a:endParaRPr b="0" lang="en-US" sz="1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4" name=""/>
          <p:cNvSpPr txBox="1"/>
          <p:nvPr/>
        </p:nvSpPr>
        <p:spPr>
          <a:xfrm>
            <a:off x="1523880" y="4114800"/>
            <a:ext cx="647712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Adaptat după Manualul de Istorie, clasa a V-a, Zoe Petre, </a:t>
            </a:r>
            <a:endParaRPr b="0" lang="en-US" sz="18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6" name="PlaceHolder 2"/>
          <p:cNvSpPr>
            <a:spLocks noGrp="1"/>
          </p:cNvSpPr>
          <p:nvPr>
            <p:ph/>
          </p:nvPr>
        </p:nvSpPr>
        <p:spPr>
          <a:xfrm>
            <a:off x="457200" y="1600200"/>
            <a:ext cx="4038480" cy="365760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Oraşul are sisteme de canalizare şi apeducte, sute de fântâni, terme, basilici, biblioteci publice, portice, străzi şi pieţe pietruit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Noile oraşe, întemeiate adesea după un plan strict (planul rectangular) sunt împodobite cu monumente şi edificii publice amintind de cele din capitala imperiului.</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pic>
        <p:nvPicPr>
          <p:cNvPr id="47" name="Picture 6" descr=""/>
          <p:cNvPicPr/>
          <p:nvPr/>
        </p:nvPicPr>
        <p:blipFill>
          <a:blip r:embed="rId1"/>
          <a:stretch/>
        </p:blipFill>
        <p:spPr>
          <a:xfrm>
            <a:off x="4952880" y="1447920"/>
            <a:ext cx="3600720" cy="3600360"/>
          </a:xfrm>
          <a:prstGeom prst="rect">
            <a:avLst/>
          </a:prstGeom>
          <a:ln w="0">
            <a:noFill/>
          </a:ln>
        </p:spPr>
      </p:pic>
      <p:graphicFrame>
        <p:nvGraphicFramePr>
          <p:cNvPr id="48" name=""/>
          <p:cNvGraphicFramePr/>
          <p:nvPr/>
        </p:nvGraphicFramePr>
        <p:xfrm>
          <a:off x="1523880" y="1371600"/>
          <a:ext cx="6096240" cy="4067280"/>
        </p:xfrm>
        <a:graphic>
          <a:graphicData uri="http://schemas.openxmlformats.org/presentationml/2006/ole">
            <p:oleObj r:id="rId2" spid="">
              <p:embed/>
              <p:pic>
                <p:nvPicPr>
                  <p:cNvPr id="49" name="" descr=""/>
                  <p:cNvPicPr/>
                  <p:nvPr/>
                </p:nvPicPr>
                <p:blipFill>
                  <a:blip r:embed="rId3"/>
                  <a:stretch/>
                </p:blipFill>
                <p:spPr>
                  <a:xfrm>
                    <a:off x="1523880" y="1371600"/>
                    <a:ext cx="6096240" cy="40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it-IT" sz="1200" spc="-1" strike="noStrike">
                <a:solidFill>
                  <a:srgbClr val="000000"/>
                </a:solidFill>
                <a:latin typeface="Arial"/>
              </a:rPr>
              <a:t>Redaţi pe scurt semnificaţia următorilor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ena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ebeu</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agistrat</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rdonaţi cronologic următoarele eveniment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ele lui Mariu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gile celor 12 tabl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a fraţilor Gracch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e urmări au avu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stituirea magistraturii de “tribun al plebe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xtinderea cuceririlor romane în bazinul mediteranea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odificările introduse în conducerea statului de către Cezar şi Octavian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lev</cp:lastModifiedBy>
  <dcterms:modified xsi:type="dcterms:W3CDTF">2012-06-18T11:13:24Z</dcterms:modified>
  <cp:revision>4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